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031-0727-474A-AE95-147027B5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B34-0947-423F-83DD-08C74B1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7D7-3F02-48E1-9800-10503B88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A7B-D1E0-4265-895B-FD54AC9C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C66F-379D-4481-A1CA-F108FFC6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7436-883E-4EC7-BCF1-A45F82EA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1096-69EA-457B-85F3-AA6329E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A68A-3108-41BB-9254-0839B298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5CEB-2138-4F73-A653-4199E63D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C13A-2A5E-4EBF-9282-DDC56513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5559-5280-437F-B100-EE2A90B0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DA7-3F99-431B-9BCC-AEA4482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4485-750C-49FF-AAFD-F5B10445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0130-E0BD-474B-9768-05B345B4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D66D-0821-4BB5-B9F1-7E9A49B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783F-4D81-4830-8679-B3251E15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8CB9-5F61-481F-BD39-43D200AE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51C9-5466-4687-8741-4C875C41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609F-915C-434E-BE8C-F9844F80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7130-B6B2-4D4A-8AFB-9FDE1732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7522-996C-4E92-8E78-2B0C0CA8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5112-8CD2-4E53-9D93-9E831F12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334-99EA-43C9-B12A-361E1718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F8F4-5260-4BA5-83FA-DD22939B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561E-D42E-4745-99BE-77E2B56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8E59-4CD1-46F3-827C-B9142AE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78DF-6741-4F8F-A088-6B93A36B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570D-C10B-4217-A489-EA060CE5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D0C8-2D6F-4F46-815D-0344A360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0DF0-78BA-4030-A5DF-F4473286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8F5-172C-4B74-85E0-356C49F2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496-07B5-4F8E-8263-506901FD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310-6E6A-4E33-9C19-7B2FB994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A6E-C254-4EF0-8EC0-3183B235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BA7-4308-4E3B-99A4-F399EA5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88A-0130-4B7A-BBD0-9D6BF7EF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6EAF-2465-4658-A92A-0C90106048A0}" type="slidenum">
              <a:rPr b="1" lang="en-U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4A56-07D5-4293-B799-DB045204624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7B8B-7329-41F8-907B-3FB52C227F2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conomiccollapse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Arial Black"/>
              </a:rPr>
              <a:t>Alejandres gann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Arial Black"/>
              </a:rPr>
              <a:t>UC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2. Collapse now bett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we delay the harder we f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 – collapse now allows it to bounce b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set shift – collapse now trigger by consumption/production cycles causes shift a cultural norms for sustainable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3. Transition wa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n’t happen because there aren’t any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 will be peaceful because pitted against globalization and industri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consumption patterns means people inclined to accept living on less and consuming l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ns vs bu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4. Ecology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rewards environmental destruction, profit motive means being less concerned with the global comm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es wasteful use of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rld dis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can’t solve species extinction and so far as failed us against war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doesn’t change consumption patterns which is necessary in the long te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5. Possibility of conflic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s because countries turn inw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ar war won’t cause extinction but environmental collapse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Defeating the impact tur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1) Sustainability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– poor economy draws entrepreneurs to think of solutions which makes ecologically sustainable living eas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s – self-correcting factors change investor calculations because survival is profi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s growing more abund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switch to more economically sustainabl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2) Collapse now wors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pse is not inevi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or cause of collapse mat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w consum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kes the collapse sever and that’s what’s happening with the current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ck of job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s rally around the flag eff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3) Transition wa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ies lash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ions still die…and that’s b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-term internal link turn to all their imp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4) Ecology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Kuznet’s Cur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ment goes towards countries that have environmental regulations because poor countries are too preoccupied with survi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5) Possibility of conflic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’s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collapse causes wars and wars turn and outweigh environmental concer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Internal Link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auses the economy to collapse matters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nner in which it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ype of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 internal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vs global econo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cit spending/government d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indus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Winning the impact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Winning the Impac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erate times call for desperate measures, economic collapse incentivizes wars and agg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portunistic w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ative w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lly around the flag eff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w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economy means more trade and inter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of an incentive to wage war when living conditions are f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Defeating the Impac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itude of the internal link – what causes the economy to collapse determines the style, extent, and response to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ical examples of economic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vs relative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s and wars are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ies turn inw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ssion causes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the imp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Impact turn debate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Relevant factors for both side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vs l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w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logy/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ty of long-term conflict or pe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Winning the impact tur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autho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d Trai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 Lew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en Bar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 Dunc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1. Sustainability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pse inevitable due to consumption patter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’s 8% growth rate and doubling every 9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pse inevitable due to production patter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only get diminishing returns and not everything has substit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15:16:26Z</dcterms:created>
  <dc:creator>Andres</dc:creator>
  <dc:description/>
  <dc:language>en-US</dc:language>
  <cp:lastModifiedBy>The Adams Family</cp:lastModifiedBy>
  <dcterms:modified xsi:type="dcterms:W3CDTF">2012-08-29T13:12:35Z</dcterms:modified>
  <cp:revision>3</cp:revision>
  <dc:subject/>
  <dc:title>Economiccollapse</dc:title>
</cp:coreProperties>
</file>